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25.gif" ContentType="image/gif"/>
  <Override PartName="/ppt/media/image23.gif" ContentType="image/gif"/>
  <Override PartName="/ppt/media/image22.gif" ContentType="image/gif"/>
  <Override PartName="/ppt/media/image20.gif" ContentType="image/gif"/>
  <Override PartName="/ppt/media/image18.gif" ContentType="image/gif"/>
  <Override PartName="/ppt/media/image14.gif" ContentType="image/gif"/>
  <Override PartName="/ppt/media/image13.gif" ContentType="image/gif"/>
  <Override PartName="/ppt/media/image46.wmf" ContentType="image/x-wmf"/>
  <Override PartName="/ppt/media/image21.gif" ContentType="image/gif"/>
  <Override PartName="/ppt/media/image19.gif" ContentType="image/gif"/>
  <Override PartName="/ppt/media/image15.wmf" ContentType="image/x-wmf"/>
  <Override PartName="/ppt/media/image41.jpeg" ContentType="image/jpeg"/>
  <Override PartName="/ppt/media/image1.png" ContentType="image/png"/>
  <Override PartName="/ppt/media/image2.jpeg" ContentType="image/jpeg"/>
  <Override PartName="/ppt/media/image26.gif" ContentType="image/gif"/>
  <Override PartName="/ppt/media/image3.gif" ContentType="image/gif"/>
  <Override PartName="/ppt/media/image27.gif" ContentType="image/gif"/>
  <Override PartName="/ppt/media/image17.gif" ContentType="image/gif"/>
  <Override PartName="/ppt/media/camera.wav" ContentType="audio/x-wav"/>
  <Override PartName="/ppt/media/image42.wmf" ContentType="image/x-wmf"/>
  <Override PartName="/ppt/media/image29.gif" ContentType="image/gif"/>
  <Override PartName="/ppt/media/image31.gif" ContentType="image/gif"/>
  <Override PartName="/ppt/media/image32.gif" ContentType="image/gif"/>
  <Override PartName="/ppt/media/image7.gif" ContentType="image/gif"/>
  <Override PartName="/ppt/media/image37.wmf" ContentType="image/x-wmf"/>
  <Override PartName="/ppt/media/image38.wmf" ContentType="image/x-wmf"/>
  <Override PartName="/ppt/media/image40.wmf" ContentType="image/x-wmf"/>
  <Override PartName="/ppt/media/image30.gif" ContentType="image/gif"/>
  <Override PartName="/ppt/media/image5.gif" ContentType="image/gif"/>
  <Override PartName="/ppt/media/image16.wmf" ContentType="image/x-wmf"/>
  <Override PartName="/ppt/media/image45.wmf" ContentType="image/x-wmf"/>
  <Override PartName="/ppt/media/image39.gif" ContentType="image/gif"/>
  <Override PartName="/ppt/media/image35.wmf" ContentType="image/x-wmf"/>
  <Override PartName="/ppt/media/image9.gif" ContentType="image/gif"/>
  <Override PartName="/ppt/media/image8.gif" ContentType="image/gif"/>
  <Override PartName="/ppt/media/image44.wmf" ContentType="image/x-wmf"/>
  <Override PartName="/ppt/media/image11.gif" ContentType="image/gif"/>
  <Override PartName="/ppt/media/image6.gif" ContentType="image/gif"/>
  <Override PartName="/ppt/media/image36.gif" ContentType="image/gif"/>
  <Override PartName="/ppt/media/image47.gif" ContentType="image/gif"/>
  <Override PartName="/ppt/media/image43.wmf" ContentType="image/x-wmf"/>
  <Override PartName="/ppt/media/image10.gif" ContentType="image/gif"/>
  <Override PartName="/ppt/media/image12.wmf" ContentType="image/x-wmf"/>
  <Override PartName="/ppt/media/image24.gif" ContentType="image/gif"/>
  <Override PartName="/ppt/media/image4.gif" ContentType="image/gif"/>
  <Override PartName="/ppt/media/image34.gif" ContentType="image/gif"/>
  <Override PartName="/ppt/media/image3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8233-F1D9-45EC-A94A-AD6EC1888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B2C6-2ADD-4827-8C03-F3DCEBE1F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BB0D-0306-4753-9914-9BB622DFF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C604-03F9-421D-964B-CE84E94E3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2CE06-E30F-4E5C-9901-002956730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208D5-93EC-44FD-88B1-D1298698E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7D2AD-10D3-40D1-A6E2-9086D9323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C41B6-002C-4C6E-9B13-D129CC16B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B7968-ECAD-4E09-A1C1-A6F6DE118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62D5A-E813-4266-8ADF-95535E2C0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50A61-8DA2-4F93-BA36-23019673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6D55-7558-4088-AF2F-5B55FDEAE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54DF6-C964-4E3E-A0A0-E57E63DF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3453D-C596-442E-A010-F84CC43F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B4CE8-5822-4C38-A18A-FC7A189C4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5B56F-0A26-46D4-8061-B504F541C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A81C0-7760-4B4C-8203-B8521CBAE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6851-7579-4A25-B2F5-2E64C2241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20D2-89B8-4048-AB89-5C1ED7A9A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220E-080C-4542-AEF2-E5DE20FC9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DD82-A846-43FA-91BC-348801FDB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D502-2F92-4EC4-9558-444EAEEF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A95A-5A7E-4273-94E5-88B89D6C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7CC7-864C-4C53-A91E-95CF0432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E01D3-E91E-45FC-917F-07E746B9FFF5}" type="slidenum"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57466-1249-49B4-A75C-BD327B4795B0}" type="slidenum"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image" Target="../media/image25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gif"/><Relationship Id="rId3" Type="http://schemas.openxmlformats.org/officeDocument/2006/relationships/image" Target="../media/image31.gif"/><Relationship Id="rId4" Type="http://schemas.openxmlformats.org/officeDocument/2006/relationships/image" Target="../media/image32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3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image" Target="../media/image36.gif"/><Relationship Id="rId3" Type="http://schemas.openxmlformats.org/officeDocument/2006/relationships/image" Target="../media/image36.gif"/><Relationship Id="rId4" Type="http://schemas.openxmlformats.org/officeDocument/2006/relationships/image" Target="../media/image36.gif"/><Relationship Id="rId5" Type="http://schemas.openxmlformats.org/officeDocument/2006/relationships/image" Target="../media/image36.gif"/><Relationship Id="rId6" Type="http://schemas.openxmlformats.org/officeDocument/2006/relationships/image" Target="../media/image36.gif"/><Relationship Id="rId7" Type="http://schemas.openxmlformats.org/officeDocument/2006/relationships/image" Target="../media/image36.gif"/><Relationship Id="rId8" Type="http://schemas.openxmlformats.org/officeDocument/2006/relationships/image" Target="../media/image36.gif"/><Relationship Id="rId9" Type="http://schemas.openxmlformats.org/officeDocument/2006/relationships/image" Target="../media/image36.gif"/><Relationship Id="rId10" Type="http://schemas.openxmlformats.org/officeDocument/2006/relationships/image" Target="../media/image36.gif"/><Relationship Id="rId11" Type="http://schemas.openxmlformats.org/officeDocument/2006/relationships/image" Target="../media/image36.gif"/><Relationship Id="rId12" Type="http://schemas.openxmlformats.org/officeDocument/2006/relationships/image" Target="../media/image36.gif"/><Relationship Id="rId13" Type="http://schemas.openxmlformats.org/officeDocument/2006/relationships/image" Target="../media/image36.gif"/><Relationship Id="rId14" Type="http://schemas.openxmlformats.org/officeDocument/2006/relationships/image" Target="../media/image36.gif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wmf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cccc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505320" y="1600200"/>
            <a:ext cx="2462040" cy="30481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1295280" y="914400"/>
            <a:ext cx="6553440" cy="2438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cc"/>
                </a:solidFill>
                <a:effectLst>
                  <a:outerShdw dist="153753" dir="2700000" blurRad="0" rotWithShape="0">
                    <a:srgbClr val="868686"/>
                  </a:outerShdw>
                </a:effectLst>
                <a:latin typeface="Guttman Hatzvi"/>
              </a:rPr>
              <a:t>ספריית נווה חנה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99cc"/>
              </a:solidFill>
              <a:effectLst>
                <a:outerShdw dist="153753" dir="2700000" blurRad="0" rotWithShape="0">
                  <a:srgbClr val="868686"/>
                </a:outerShdw>
              </a:effectLst>
              <a:latin typeface="Guttman Hatzvi"/>
              <a:ea typeface="Guttman Hatzv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600200" y="5181480"/>
            <a:ext cx="6400800" cy="781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cc"/>
                </a:solidFill>
                <a:effectLst>
                  <a:outerShdw dist="153753" dir="2700000" blurRad="0" rotWithShape="0">
                    <a:srgbClr val="868686"/>
                  </a:outerShdw>
                </a:effectLst>
                <a:latin typeface="Guttman Hatzvi"/>
              </a:rPr>
              <a:t>ברוכות הבאות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99cc"/>
              </a:solidFill>
              <a:effectLst>
                <a:outerShdw dist="153753" dir="2700000" blurRad="0" rotWithShape="0">
                  <a:srgbClr val="868686"/>
                </a:outerShdw>
              </a:effectLst>
              <a:latin typeface="Guttman Hatzvi"/>
              <a:ea typeface="Guttman Hatzvi"/>
            </a:endParaRPr>
          </a:p>
        </p:txBody>
      </p:sp>
    </p:spTree>
  </p:cSld>
  <p:transition spd="slow" advTm="11000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85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385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38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38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5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385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385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" dur="385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" dur="385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90720" y="304920"/>
            <a:ext cx="7769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אפשר לצפות בטלוויזיה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אך רק באישור ההנהל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276720" y="2895480"/>
            <a:ext cx="2819160" cy="281952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checker dir="ver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50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71600" y="228600"/>
            <a:ext cx="6781680" cy="63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המחשבים ה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רכוש הציבו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לא "לטפל" בהם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אם יש בעיה-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לפנות לספרניות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352680" y="3200400"/>
            <a:ext cx="2286000" cy="153684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cover dir="d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6300"/>
                            </p:stCondLst>
                            <p:childTnLst>
                              <p:par>
                                <p:cTn id="20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8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990720" y="0"/>
            <a:ext cx="7769160" cy="72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המדפסות נועדו לשימוש לימודי בלב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כל הדפסה אחרת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תחויב בתשלום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וכאשר מדפיסי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השתדלו לא להגזי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הדיו יקר וגם חבל על הדפים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162920" y="3276720"/>
            <a:ext cx="1439640" cy="1257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838080" y="3048120"/>
            <a:ext cx="2438640" cy="203184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zoom dir="in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31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7900"/>
                            </p:stCondLst>
                            <p:childTnLst>
                              <p:par>
                                <p:cTn id="222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400"/>
                            </p:stCondLst>
                            <p:childTnLst>
                              <p:par>
                                <p:cTn id="2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9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828800" y="2286000"/>
            <a:ext cx="56386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המחשבים בספרייה נועדו לצורך לימודי </a:t>
            </a:r>
            <a:r>
              <a:rPr b="1" lang="hi-IN" sz="4000" spc="-1" strike="noStrike" u="sng">
                <a:solidFill>
                  <a:srgbClr val="a1bd69"/>
                </a:solidFill>
                <a:uFillTx/>
                <a:latin typeface="Times New Roman"/>
                <a:cs typeface="Guttman Yad-Brush"/>
              </a:rPr>
              <a:t>בלבד</a:t>
            </a:r>
            <a:r>
              <a:rPr b="0" lang="en-US" sz="4000" spc="-1" strike="noStrike">
                <a:solidFill>
                  <a:srgbClr val="a1bd69"/>
                </a:solidFill>
                <a:latin typeface="Times New Roman"/>
                <a:ea typeface="Guttman Yad-Brush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5120" y="4267080"/>
            <a:ext cx="1600200" cy="15336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553080" y="533520"/>
            <a:ext cx="1981440" cy="12380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6629400" y="3962520"/>
            <a:ext cx="1905120" cy="15382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1676520" y="990720"/>
            <a:ext cx="1657080" cy="974520"/>
          </a:xfrm>
          <a:prstGeom prst="rect">
            <a:avLst/>
          </a:prstGeom>
          <a:ln w="0">
            <a:noFill/>
          </a:ln>
        </p:spPr>
      </p:pic>
    </p:spTree>
  </p:cSld>
  <p:transition spd="slow" advTm="19000">
    <p:pull dir="u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8" dur="3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100"/>
                            </p:stCondLst>
                            <p:childTnLst>
                              <p:par>
                                <p:cTn id="240" nodeType="afterEffect" fill="hold" presetClass="entr" presetID="2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6600"/>
                            </p:stCondLst>
                            <p:childTnLst>
                              <p:par>
                                <p:cTn id="245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9100"/>
                            </p:stCondLst>
                            <p:childTnLst>
                              <p:par>
                                <p:cTn id="250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1600"/>
                            </p:stCondLst>
                            <p:childTnLst>
                              <p:par>
                                <p:cTn id="255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809880" y="609480"/>
            <a:ext cx="5070600" cy="44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אין לקחת             דפים מהמדפסות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בשביל זה יש    דפי טיוטה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1bd69"/>
                </a:solidFill>
                <a:latin typeface="Times New Roman"/>
                <a:ea typeface="Guttman Yad-Brush"/>
              </a:rPr>
              <a:t>(מתחת למכונת הצילום ואצל הספרניות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477120" y="518148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066680" y="1943280"/>
            <a:ext cx="2743200" cy="246852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fade thruBlk="true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5" dur="3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7400"/>
                            </p:stCondLst>
                            <p:childTnLst>
                              <p:par>
                                <p:cTn id="267" nodeType="afterEffect" fill="hold" presetClass="entr" presetID="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4400"/>
                            </p:stCondLst>
                            <p:childTnLst>
                              <p:par>
                                <p:cTn id="272" nodeType="afterEffect" fill="hold" presetClass="entr" presetID="23" presetSubtype="3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990720" y="838080"/>
            <a:ext cx="77691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כאשר מעיינים בספר מתערוכה או מ"חדש בספריה"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החזירו אותו למקומו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352680" y="3886200"/>
            <a:ext cx="2743200" cy="19843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ipe dir="d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500"/>
                            </p:stCondLst>
                            <p:childTnLst>
                              <p:par>
                                <p:cTn id="28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105520" y="38088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86600" y="380880"/>
            <a:ext cx="1390680" cy="13906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1219320" y="380880"/>
            <a:ext cx="893520" cy="12956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981080" y="2209680"/>
            <a:ext cx="60692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לקחתן חפצים מהספרניות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בשמחה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hi-IN" sz="44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החזירו אותם מיד לאחר השימו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2743200" y="228600"/>
            <a:ext cx="2590920" cy="226692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blinds dir="horz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3000"/>
                            </p:stCondLst>
                            <p:childTnLst>
                              <p:par>
                                <p:cTn id="312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500"/>
                            </p:stCondLst>
                            <p:childTnLst>
                              <p:par>
                                <p:cTn id="317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8000"/>
                            </p:stCondLst>
                            <p:childTnLst>
                              <p:par>
                                <p:cTn id="321" nodeType="afterEffect" fill="hold" presetClass="entr" presetID="18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990720" y="457200"/>
            <a:ext cx="7769160" cy="56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דפים מ"קלסרי נושאים"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יש להוציא עם הניילון בלבד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אל תחזירו את הניילון לקלסר- הניחו אותו על העגל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581280" y="2286000"/>
            <a:ext cx="2438640" cy="16178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143000" y="2286000"/>
            <a:ext cx="2438280" cy="16178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6019920" y="2286000"/>
            <a:ext cx="2438280" cy="161784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diamond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450"/>
                            </p:stCondLst>
                            <p:childTnLst>
                              <p:par>
                                <p:cTn id="336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3950"/>
                            </p:stCondLst>
                            <p:childTnLst>
                              <p:par>
                                <p:cTn id="341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6450"/>
                            </p:stCondLst>
                            <p:childTnLst>
                              <p:par>
                                <p:cTn id="346" nodeType="afterEffect" fill="hold" presetClass="entr" presetID="2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8950"/>
                            </p:stCondLst>
                            <p:childTnLst>
                              <p:par>
                                <p:cTn id="3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9450"/>
                            </p:stCondLst>
                            <p:childTnLst>
                              <p:par>
                                <p:cTn id="3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9950"/>
                            </p:stCondLst>
                            <p:childTnLst>
                              <p:par>
                                <p:cTn id="3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295280" y="2133720"/>
            <a:ext cx="7239240" cy="18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בתום השימוש יש להחזיר את הספרים לעגלה בלבד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638680" y="4648320"/>
            <a:ext cx="1981440" cy="18637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-2629080" y="549360"/>
            <a:ext cx="2286000" cy="180972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circle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7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7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8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8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25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4750"/>
                            </p:stCondLst>
                            <p:childTnLst>
                              <p:par>
                                <p:cTn id="387" nodeType="after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30764 0.07615 C -0.28403 0.07268 -0.31406 0.0794 -0.29653 0.06551 C -0.2934 0.06319 -0.28281 0.0625 -0.28281 0.06273 C -0.20573 0.06389 -0.12917 0.06852 -0.05174 0.07014 C -0.03125 0.07361 -0.01806 0.07523 0.00469 0.07615 C 0.09514 0.07546 0.17604 0.07222 0.26441 0.07014 C 0.27882 0.06713 0.29132 0.0618 0.30486 0.05787 C 0.3099 0.05625 0.32292 0.05532 0.32726 0.05486 C 0.33941 0.05208 0.34931 0.04606 0.36094 0.04259 C 0.37899 0.0375 0.40017 0.03634 0.41944 0.03495 C 0.47153 0.02222 0.52986 0.03287 0.58542 0.03333 C 0.61007 0.03379 0.6349 0.03287 0.65938 0.03495 C 0.66806 0.03588 0.68264 0.04652 0.69514 0.04861 C 0.70625 0.05416 0.7158 0.05555 0.72882 0.05787 C 0.7934 0.05671 0.80764 0.06111 0.85226 0.05023 C 0.86719 0.03565 0.90139 0.03773 0.92431 0.03657 C 0.94462 0.03426 0.96267 0.02777 0.98247 0.02569 C 0.9849 0.0243 0.98628 0.02152 0.98924 0.02129 C 1.04132 0.01504 1.05972 0.02685 1.04306 0.01666 E">
                                      <p:cBhvr>
                                        <p:cTn id="388" dur="5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981080" y="914400"/>
            <a:ext cx="54864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דאגו תמיד לסדר אחריכן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אחרי לימוד משותף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אחרי מבחן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אחרי פעילות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תמיד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8001000" y="1523880"/>
            <a:ext cx="609480" cy="3733920"/>
            <a:chOff x="8001000" y="1523880"/>
            <a:chExt cx="609480" cy="3733920"/>
          </a:xfrm>
        </p:grpSpPr>
        <p:grpSp>
          <p:nvGrpSpPr>
            <p:cNvPr id="153" name=""/>
            <p:cNvGrpSpPr/>
            <p:nvPr/>
          </p:nvGrpSpPr>
          <p:grpSpPr>
            <a:xfrm>
              <a:off x="8001000" y="1523880"/>
              <a:ext cx="609480" cy="3221280"/>
              <a:chOff x="8001000" y="1523880"/>
              <a:chExt cx="609480" cy="3221280"/>
            </a:xfrm>
          </p:grpSpPr>
          <p:pic>
            <p:nvPicPr>
              <p:cNvPr id="1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001000" y="4191120"/>
                <a:ext cx="609480" cy="55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8001000" y="3657600"/>
                <a:ext cx="609480" cy="55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001000" y="3124080"/>
                <a:ext cx="609480" cy="55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001000" y="2590920"/>
                <a:ext cx="609480" cy="55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001000" y="2057400"/>
                <a:ext cx="609480" cy="55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001000" y="1523880"/>
                <a:ext cx="60948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60" name="" descr=""/>
            <p:cNvPicPr/>
            <p:nvPr/>
          </p:nvPicPr>
          <p:blipFill>
            <a:blip r:embed="rId7"/>
            <a:stretch/>
          </p:blipFill>
          <p:spPr>
            <a:xfrm>
              <a:off x="8001000" y="4703760"/>
              <a:ext cx="609480" cy="554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1" name=""/>
          <p:cNvGrpSpPr/>
          <p:nvPr/>
        </p:nvGrpSpPr>
        <p:grpSpPr>
          <a:xfrm>
            <a:off x="1371600" y="1447920"/>
            <a:ext cx="609480" cy="3733200"/>
            <a:chOff x="1371600" y="1447920"/>
            <a:chExt cx="609480" cy="3733200"/>
          </a:xfrm>
        </p:grpSpPr>
        <p:grpSp>
          <p:nvGrpSpPr>
            <p:cNvPr id="162" name=""/>
            <p:cNvGrpSpPr/>
            <p:nvPr/>
          </p:nvGrpSpPr>
          <p:grpSpPr>
            <a:xfrm>
              <a:off x="1371600" y="1447920"/>
              <a:ext cx="609480" cy="3220560"/>
              <a:chOff x="1371600" y="1447920"/>
              <a:chExt cx="609480" cy="3220560"/>
            </a:xfrm>
          </p:grpSpPr>
          <p:pic>
            <p:nvPicPr>
              <p:cNvPr id="1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371600" y="4114800"/>
                <a:ext cx="609480" cy="553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1371600" y="3581280"/>
                <a:ext cx="609480" cy="553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1371600" y="3047760"/>
                <a:ext cx="609480" cy="553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1371600" y="2514600"/>
                <a:ext cx="609480" cy="553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1371600" y="1981080"/>
                <a:ext cx="609480" cy="553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1371600" y="1447920"/>
                <a:ext cx="609480" cy="5536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69" name="" descr=""/>
            <p:cNvPicPr/>
            <p:nvPr/>
          </p:nvPicPr>
          <p:blipFill>
            <a:blip r:embed="rId14"/>
            <a:stretch/>
          </p:blipFill>
          <p:spPr>
            <a:xfrm>
              <a:off x="1371600" y="4627440"/>
              <a:ext cx="609480" cy="553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16000">
    <p:wipe dir="d"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9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3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3000"/>
                            </p:stCondLst>
                            <p:childTnLst>
                              <p:par>
                                <p:cTn id="41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ccccff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685800"/>
            <a:ext cx="8153280" cy="406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99cc"/>
                </a:solidFill>
                <a:latin typeface="Times New Roman"/>
                <a:cs typeface="Guttman Hatzvi"/>
              </a:rPr>
              <a:t>כשאת רוצה ללמוד במקום שקט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99cc"/>
                </a:solidFill>
                <a:latin typeface="Times New Roman"/>
                <a:cs typeface="Guttman Hatzvi"/>
              </a:rPr>
              <a:t>כשאת רוצה פינה רגועה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99cc"/>
                </a:solidFill>
                <a:latin typeface="Times New Roman"/>
                <a:cs typeface="Guttman Hatzvi"/>
              </a:rPr>
              <a:t>כשאת רוצה להכין את הפעולה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33520" y="4648320"/>
            <a:ext cx="73911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cc"/>
                </a:solidFill>
                <a:effectLst>
                  <a:outerShdw dist="153753" dir="2700000" blurRad="0" rotWithShape="0">
                    <a:srgbClr val="868686"/>
                  </a:outerShdw>
                </a:effectLst>
                <a:latin typeface="Guttman Hatzvi"/>
              </a:rPr>
              <a:t>בואי לספרייה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99cc"/>
              </a:solidFill>
              <a:effectLst>
                <a:outerShdw dist="153753" dir="2700000" blurRad="0" rotWithShape="0">
                  <a:srgbClr val="868686"/>
                </a:outerShdw>
              </a:effectLst>
              <a:latin typeface="Guttman Hatzvi"/>
              <a:ea typeface="Guttman Hatzvi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276720" y="3200400"/>
            <a:ext cx="861840" cy="11048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952880" y="3200400"/>
            <a:ext cx="795600" cy="11048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-1523880" y="4437000"/>
            <a:ext cx="1523880" cy="152424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dissolv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7000"/>
                            </p:stCondLst>
                            <p:childTnLst>
                              <p:par>
                                <p:cTn id="37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9500"/>
                            </p:stCondLst>
                            <p:childTnLst>
                              <p:par>
                                <p:cTn id="42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3000"/>
                            </p:stCondLst>
                            <p:childTnLst>
                              <p:par>
                                <p:cTn id="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5.92593E-006 C 0.08108 -0.00138 0.08594 0.00626 0.13507 -0.00879 C 0.15208 -0.0243 0.13993 -0.01504 0.18507 -0.01111 C 0.1908 -0.01064 0.2 5.92593E-006 0.2 5.92593E-006 C 0.2099 0.02014 0.22448 0.02593 0.24167 0.02894 C 0.24913 0.03218 0.25451 0.03681 0.26163 0.04005 C 0.26979 0.05093 0.26285 0.04445 0.275 0.04885 C 0.27847 0.05001 0.28177 0.05186 0.28507 0.05348 C 0.28663 0.05417 0.28993 0.05556 0.28993 0.05556 C 0.29427 0.06089 0.29601 0.06436 0.30174 0.06667 C 0.32031 0.0838 0.31806 0.08149 0.3434 0.0845 C 0.38559 0.09931 0.35295 0.08866 0.46163 0.0845 C 0.46858 0.08427 0.475 0.07848 0.4816 0.07778 C 0.50486 0.07524 0.5283 0.07501 0.55174 0.07339 C 0.55868 0.07014 0.56476 0.06552 0.5717 0.06227 C 0.57378 0.05325 0.57622 0.05255 0.5816 0.04677 C 0.58403 0.04422 0.58559 0.04005 0.58819 0.03774 C 0.5941 0.03311 0.60434 0.03218 0.61007 0.03126 C 0.63837 0.01783 0.66302 0.0213 0.69497 0.02014 C 0.71736 0.01251 0.73941 0.00348 0.76163 -0.00439 C 0.76962 -0.01134 0.77882 -0.01296 0.78837 -0.01319 C 0.82448 -0.01458 0.86059 -0.01504 0.8967 -0.0155 C 0.93507 -0.01597 0.97326 -0.0155 1.01163 -0.0155 E">
                                      <p:cBhvr>
                                        <p:cTn id="54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676520" y="457200"/>
            <a:ext cx="6933960" cy="50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אם העברתן כסאות מחדר לחדר- החזירו אותם למקומם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אם הפרדתן או חיברתן                         שולחנות- החזירו אותם למצב המקורי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זרקו את הלכלוכים, הדפים, הגזירות וכ'ו לפח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731000" y="1143000"/>
            <a:ext cx="621000" cy="12142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rcRect l="29574" t="0" r="0" b="0"/>
          <a:stretch/>
        </p:blipFill>
        <p:spPr>
          <a:xfrm>
            <a:off x="1143000" y="838080"/>
            <a:ext cx="1631880" cy="17100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990720" y="380988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p:transition spd="slow" advTm="39000">
    <p:split dir="out" orient="horz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200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75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75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75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75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3750"/>
                            </p:stCondLst>
                            <p:childTnLst>
                              <p:par>
                                <p:cTn id="427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6250"/>
                            </p:stCondLst>
                            <p:childTnLst>
                              <p:par>
                                <p:cTn id="432" nodeType="afterEffect" fill="hold" presetClass="entr" presetID="18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28750"/>
                            </p:stCondLst>
                            <p:childTnLst>
                              <p:par>
                                <p:cTn id="436" nodeType="afterEffect" fill="hold" presetClass="entr" presetID="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648320" y="838080"/>
            <a:ext cx="38098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קשקושים, חישובים והערות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רק על דפים ולא על השולחנות והקירו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2373480" cy="2582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heel spokes="2"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000"/>
                            </p:stCondLst>
                            <p:childTnLst>
                              <p:par>
                                <p:cTn id="456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4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4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3000"/>
                            </p:stCondLst>
                            <p:childTnLst>
                              <p:par>
                                <p:cTn id="46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6" dur="250" autoRev="1" fill="hold"/>
                                        <p:tgtEl>
                                          <p:spTgt spid="1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143000" y="41911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905120" y="838080"/>
            <a:ext cx="579096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לפני שאתן יוצאות מהספרייה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אספו את כל הציוד שלכן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7391520" y="2971800"/>
            <a:ext cx="1295280" cy="10638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7620120" y="457200"/>
            <a:ext cx="971280" cy="11905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1219320" y="1295280"/>
            <a:ext cx="914400" cy="9097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7205760" y="5029200"/>
            <a:ext cx="128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נעליי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07440" y="419112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סוודרי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82680" y="4267080"/>
            <a:ext cx="11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חוטי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88760" y="5181480"/>
            <a:ext cx="138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צעיפי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19040" y="5943600"/>
            <a:ext cx="129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ספרי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95600" y="5867280"/>
            <a:ext cx="156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מחברו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441480" y="5867280"/>
            <a:ext cx="189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כלי כתיב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79440" y="5241960"/>
            <a:ext cx="101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דפי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0">
    <p:strips dir="rd"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3" dur="3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0"/>
                            </p:stCondLst>
                            <p:childTnLst>
                              <p:par>
                                <p:cTn id="47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9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6000"/>
                            </p:stCondLst>
                            <p:childTnLst>
                              <p:par>
                                <p:cTn id="48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7000"/>
                            </p:stCondLst>
                            <p:childTnLst>
                              <p:par>
                                <p:cTn id="48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9000"/>
                            </p:stCondLst>
                            <p:childTnLst>
                              <p:par>
                                <p:cTn id="49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9500"/>
                            </p:stCondLst>
                            <p:childTnLst>
                              <p:par>
                                <p:cTn id="504" nodeType="afterEffect" fill="hold" presetClass="entr" presetID="35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1000"/>
                            </p:stCondLst>
                            <p:childTnLst>
                              <p:par>
                                <p:cTn id="511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1500"/>
                            </p:stCondLst>
                            <p:childTnLst>
                              <p:par>
                                <p:cTn id="518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2000"/>
                            </p:stCondLst>
                            <p:childTnLst>
                              <p:par>
                                <p:cTn id="525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2500"/>
                            </p:stCondLst>
                            <p:childTnLst>
                              <p:par>
                                <p:cTn id="532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3000"/>
                            </p:stCondLst>
                            <p:childTnLst>
                              <p:par>
                                <p:cTn id="539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3500"/>
                            </p:stCondLst>
                            <p:childTnLst>
                              <p:par>
                                <p:cTn id="546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4000"/>
                            </p:stCondLst>
                            <p:childTnLst>
                              <p:par>
                                <p:cTn id="553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066680" y="565200"/>
            <a:ext cx="762012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הספרייה היא המפתח להצלחה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נשמור עליה- היא תעזור לנו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743200" y="2057400"/>
            <a:ext cx="3809880" cy="355428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split dir="in" orient="vert"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0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4000"/>
                            </p:stCondLst>
                            <p:childTnLst>
                              <p:par>
                                <p:cTn id="570" nodeType="afterEffect" fill="hold" presetClass="entr" presetID="3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066680" y="380880"/>
            <a:ext cx="77695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על כל שאלה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קושיה או בעי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1bd69"/>
                </a:solidFill>
                <a:latin typeface="Times New Roman"/>
                <a:ea typeface="Guttman Yad-Brush"/>
              </a:rPr>
              <a:t> נשמח לענות ולפתור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אנחנו כאן- בשבילכן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1bd69"/>
                </a:solidFill>
                <a:latin typeface="Times New Roman"/>
                <a:ea typeface="Guttman Yad-Brush"/>
              </a:rPr>
              <a:t>         צוות הספריי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019920" y="4648320"/>
            <a:ext cx="1981080" cy="1573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914400" y="609480"/>
            <a:ext cx="1828800" cy="1735200"/>
          </a:xfrm>
          <a:prstGeom prst="rect">
            <a:avLst/>
          </a:prstGeom>
          <a:ln w="0">
            <a:noFill/>
          </a:ln>
        </p:spPr>
      </p:pic>
    </p:spTree>
  </p:cSld>
  <p:transition spd="slow" advTm="19000">
    <p:wheel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8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9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13000"/>
                            </p:stCondLst>
                            <p:childTnLst>
                              <p:par>
                                <p:cTn id="59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ccccff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0"/>
            <a:ext cx="7848720" cy="55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99cc"/>
                </a:solidFill>
                <a:latin typeface="Times New Roman"/>
                <a:cs typeface="Guttman Hatzvi"/>
              </a:rPr>
              <a:t>כפי שתגלי-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99cc"/>
                </a:solidFill>
                <a:latin typeface="Times New Roman"/>
                <a:cs typeface="Guttman Hatzvi"/>
              </a:rPr>
              <a:t>הספרייה היא מקום מאוד מרכזי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99cc"/>
                </a:solidFill>
                <a:latin typeface="Times New Roman"/>
                <a:cs typeface="Guttman Hatzvi"/>
              </a:rPr>
              <a:t>יש שם ספרי קריאה, ספרי עיון,                כתבי עת, מחשבים, אנציקלופדיות, פעולות, קלסרי נושאים, קלטות וידאו, דיסקים ושירים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99cc"/>
                </a:solidFill>
                <a:latin typeface="Times New Roman"/>
                <a:cs typeface="Guttman Hatzvi"/>
              </a:rPr>
              <a:t>ובעצם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99cc"/>
                </a:solidFill>
                <a:latin typeface="Times New Roman"/>
                <a:cs typeface="Guttman Hatzvi"/>
              </a:rPr>
              <a:t>ה- כ-ו-ל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46000" cy="10285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248520" y="4611600"/>
            <a:ext cx="1828800" cy="1638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990720" y="4572000"/>
            <a:ext cx="1600200" cy="1455840"/>
          </a:xfrm>
          <a:prstGeom prst="rect">
            <a:avLst/>
          </a:prstGeom>
          <a:ln w="0">
            <a:noFill/>
          </a:ln>
        </p:spPr>
      </p:pic>
    </p:spTree>
  </p:cSld>
  <p:transition spd="slow" advTm="23000">
    <p:strips dir="l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4000"/>
                            </p:stCondLst>
                            <p:childTnLst>
                              <p:par>
                                <p:cTn id="63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6500"/>
                            </p:stCondLst>
                            <p:childTnLst>
                              <p:par>
                                <p:cTn id="67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9000"/>
                            </p:stCondLst>
                            <p:childTnLst>
                              <p:par>
                                <p:cTn id="71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ccccff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05120" y="1371600"/>
            <a:ext cx="56386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99cc"/>
                </a:solidFill>
                <a:latin typeface="Times New Roman"/>
                <a:cs typeface="Guttman Hatzvi"/>
              </a:rPr>
              <a:t>מאחורי הקלעים נמצאות הספרניו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99cc"/>
                </a:solidFill>
                <a:latin typeface="Times New Roman"/>
                <a:cs typeface="Guttman Hatzvi"/>
              </a:rPr>
              <a:t>מוכנות לעזור באיתור חומרים  ובהמלצות ספרי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05120" y="838080"/>
            <a:ext cx="5638680" cy="49737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zoom dir="in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8" presetSubtype="12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3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3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ccccff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76720" y="3657600"/>
            <a:ext cx="2338200" cy="23623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057400" y="685800"/>
            <a:ext cx="5791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0" spc="-1" strike="noStrike">
                <a:solidFill>
                  <a:srgbClr val="0099cc"/>
                </a:solidFill>
                <a:latin typeface="Times New Roman"/>
                <a:cs typeface="Guttman Hatzvi"/>
              </a:rPr>
              <a:t>לכן...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wipe dir="u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5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702480" y="78408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71600" y="2514600"/>
            <a:ext cx="723888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843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a1bd69"/>
                </a:solidFill>
                <a:effectLst>
                  <a:outerShdw dist="153753" dir="2700000" blurRad="0" rotWithShape="0">
                    <a:srgbClr val="808080"/>
                  </a:outerShdw>
                </a:effectLst>
                <a:latin typeface="Guttman Hatzvi"/>
              </a:rPr>
              <a:t>יש כמה כללים</a:t>
            </a:r>
            <a:endParaRPr b="0" lang="en-US" sz="2400" spc="1" strike="noStrike">
              <a:ln w="0">
                <a:noFill/>
              </a:ln>
              <a:solidFill>
                <a:srgbClr val="a1bd69"/>
              </a:solidFill>
              <a:effectLst>
                <a:outerShdw dist="153753" dir="2700000" blurRad="0" rotWithShape="0">
                  <a:srgbClr val="808080"/>
                </a:outerShdw>
              </a:effectLst>
              <a:latin typeface="Guttman Hatzvi"/>
              <a:ea typeface="Guttman Hatzv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a1bd69"/>
                </a:solidFill>
                <a:effectLst>
                  <a:outerShdw dist="153753" dir="2700000" blurRad="0" rotWithShape="0">
                    <a:srgbClr val="808080"/>
                  </a:outerShdw>
                </a:effectLst>
                <a:latin typeface="Guttman Hatzvi"/>
              </a:rPr>
              <a:t>לשמור שיהיה לכולנו נעים!</a:t>
            </a:r>
            <a:endParaRPr b="0" lang="en-US" sz="2400" spc="1" strike="noStrike">
              <a:ln w="0">
                <a:noFill/>
              </a:ln>
              <a:solidFill>
                <a:srgbClr val="a1bd69"/>
              </a:solidFill>
              <a:effectLst>
                <a:outerShdw dist="153753" dir="2700000" blurRad="0" rotWithShape="0">
                  <a:srgbClr val="808080"/>
                </a:outerShdw>
              </a:effectLst>
              <a:latin typeface="Guttman Hatzvi"/>
              <a:ea typeface="Guttman Hatzvi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114800" y="609480"/>
            <a:ext cx="1344600" cy="2286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heel spokes="8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403280" y="981000"/>
            <a:ext cx="674856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בכניסתכן לספרייה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שלום + חיו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יתקבלו בברכה!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26920" y="3068640"/>
            <a:ext cx="2324160" cy="30560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plit dir="in" orient="ver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90720" y="380880"/>
            <a:ext cx="7769160" cy="61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לא נכנסים ע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אוכל ושתייה!</a:t>
            </a:r>
            <a:br>
              <a:rPr sz="4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1bd69"/>
                </a:solidFill>
                <a:latin typeface="Times New Roman"/>
                <a:ea typeface="Guttman Yad-Brush"/>
              </a:rPr>
              <a:t>(מותר להכניס בקבוק שתייה בלבד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657600" y="327672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600200" y="2590920"/>
            <a:ext cx="1089000" cy="909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155600" y="3581280"/>
            <a:ext cx="20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660066"/>
                </a:solidFill>
                <a:latin typeface="Arial"/>
                <a:cs typeface="Arial"/>
              </a:rPr>
              <a:t>שיהיה בתאבון- אבל בחוץ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6248520" y="2438280"/>
            <a:ext cx="1828800" cy="181944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random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3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6200"/>
                            </p:stCondLst>
                            <p:childTnLst>
                              <p:par>
                                <p:cTn id="148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8700"/>
                            </p:stCondLst>
                            <p:childTnLst>
                              <p:par>
                                <p:cTn id="153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1200"/>
                            </p:stCondLst>
                            <p:childTnLst>
                              <p:par>
                                <p:cTn id="160" nodeType="afterEffect" fill="hold" presetClass="entr" presetID="18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3700"/>
                            </p:stCondLst>
                            <p:childTnLst>
                              <p:par>
                                <p:cTn id="16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990720" y="838080"/>
            <a:ext cx="776916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לא מדברים בפלאפון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1bd69"/>
                </a:solidFill>
                <a:latin typeface="Times New Roman"/>
                <a:ea typeface="Guttman Yad-Brush"/>
              </a:rPr>
              <a:t>(לשים את הפלאפון על רטט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a1bd69"/>
                </a:solidFill>
                <a:latin typeface="Times New Roman"/>
                <a:cs typeface="Guttman Yad-Brush"/>
              </a:rPr>
              <a:t>ואם יש שיחה- לצאת מהספרייה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733920" y="2209680"/>
            <a:ext cx="2255760" cy="22561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cover dir="rd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6" presetSubtype="2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500"/>
                            </p:stCondLst>
                            <p:childTnLst>
                              <p:par>
                                <p:cTn id="176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5T08:45:57Z</dcterms:created>
  <dc:creator>נוה חנה</dc:creator>
  <dc:description/>
  <dc:language>en-US</dc:language>
  <cp:lastModifiedBy>neve chana</cp:lastModifiedBy>
  <dcterms:modified xsi:type="dcterms:W3CDTF">2007-04-26T14:26:25Z</dcterms:modified>
  <cp:revision>119</cp:revision>
  <dc:subject/>
  <dc:title>ספריית נווה חנה</dc:title>
</cp:coreProperties>
</file>